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66C-4FF1-4465-8E1B-8B71C0F1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FFF-48AF-4ED9-B10A-FF444119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51C1-78C3-41C0-B611-1D185A97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B72-B77F-4ECD-AEB3-D40C992F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CE8-A56C-4ED3-A098-F788AECF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927-F592-44C5-AEF4-DE8A32BC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E19A-6364-4807-8772-A37EF063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7DC-4518-432F-9EDA-ABE6C449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A66-F0CB-4DC4-BE82-5BA7ACD5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2A7B-9126-4174-9884-CA5D7549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EBB0-7303-4216-BBD5-1BC76AC3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DE2-5C5A-4A6C-8B71-2CB23A4D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CB7C-978D-4721-84FA-15D2B8754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9308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332000" y="112536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332000" y="836640"/>
            <a:ext cx="3095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1341360"/>
            <a:ext cx="215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115640" y="2781360"/>
            <a:ext cx="43164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116000" y="4508280"/>
            <a:ext cx="244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564000" y="2491920"/>
            <a:ext cx="36036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924360" y="836280"/>
            <a:ext cx="503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195640" y="1125000"/>
            <a:ext cx="172872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116000" y="2492280"/>
            <a:ext cx="280836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47640" y="2491920"/>
            <a:ext cx="2376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2781360"/>
            <a:ext cx="201636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116000" y="1341000"/>
            <a:ext cx="21600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116000" y="1125000"/>
            <a:ext cx="107964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195640" y="836640"/>
            <a:ext cx="2232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116000" y="836280"/>
            <a:ext cx="331164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547640" y="836640"/>
            <a:ext cx="288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125360"/>
            <a:ext cx="1368360" cy="338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47640" y="1125360"/>
            <a:ext cx="64800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341360"/>
            <a:ext cx="2592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1341360"/>
            <a:ext cx="2232000" cy="31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564000" y="836640"/>
            <a:ext cx="86364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440" y="45086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nt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520" y="4724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int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11960" y="62064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ñalol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6160" y="692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c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3800" y="11970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 Joaqu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3800" y="2565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G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5240" y="22766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lo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8:09:06Z</dcterms:created>
  <dc:creator>Sebastián A. Guzmán Silva</dc:creator>
  <dc:description/>
  <dc:language>en-US</dc:language>
  <cp:lastModifiedBy>Sebastián A. Guzmán Silva</cp:lastModifiedBy>
  <dcterms:modified xsi:type="dcterms:W3CDTF">2006-10-26T18:22:58Z</dcterms:modified>
  <cp:revision>2</cp:revision>
  <dc:subject/>
  <dc:title>Diapositiva 1</dc:title>
</cp:coreProperties>
</file>